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2A06-4EC3-4504-848C-D0AE04676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006F-1EB4-4944-A88D-7C3604099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A543-FAFA-40E2-A7F4-A72A8CE9E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5C04-5B62-4EEB-85E4-B9C770362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A30E-466D-4F0C-8DF9-7763BDE429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506B-4C66-4270-8794-F2D1C0DF3B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80C9-BFA7-4F25-A206-1E07755BA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F8E7-DC11-41B3-B1C7-A09FCE6DC8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A27A-2CF5-41D4-B409-5F5F5C3E0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A62C-C13A-4B7B-86F7-DECB0499BB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5CF0-1E2F-4E24-B088-F1A02DF30A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974E-3F32-4348-8598-DCF7D66F5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518B-AC28-42CE-B685-EEFA36AC09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8D6B-C6A8-4052-BF22-A6325E1A18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7E11-C84E-4063-A489-3862C63144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1463-14CB-4315-A13E-0D2997018A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3329-EB58-4971-8E72-109A580874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58D-1E1D-437A-AE42-5C32CB38E7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623-CB8F-4ED4-A4A7-A61D8BC851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3BD-7EAF-4C34-9C8A-262B88AAA2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8A2-88AD-40E1-8A50-EA006D8EBB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5CB-CB57-49DB-A16F-73CF74BDC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4ED3-6D95-499A-867F-2681126A50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78C-0F5C-4D4F-9A73-C27894D554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380-CF05-48C7-B8D2-79EDA3AB75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94C-327A-408C-933C-239CA2DE0C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24B-0A35-4BC2-91E7-9F50481482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7A8-774D-484B-B572-AB218E4052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7E4-4037-4FF8-BF3D-2C976A7FFA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9E7-F584-48EE-BB7F-8E9016876A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BF71B-E2AB-48F2-A338-FB70713EF2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0AED5-3187-4302-9389-461C868EFF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40F4A-D942-4E4A-BD88-1748F34E1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6484-FD9C-47A1-A2AA-2124072DBB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F0EC2-3057-43A4-8E39-EB89F0CD2D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48D75-BA66-46E7-B3AE-F8D6BFBB81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E4A87-4090-470D-AD7B-76B0FCA82C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44205-49A7-4578-ABED-F1A0F88C7D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ABBA2-4C38-4783-84C2-B19309F4AD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F2285-DECE-484F-838C-448093AA4F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1EFED-A1C6-451A-98FF-DF6DA5C64B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4F5B9-D2C3-4E6C-8359-03B7C44F4C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68B20-88AE-49AC-A403-298FD6553E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20084-F1FA-467D-AB1B-969E475F5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9B76-A903-44CC-BE14-618DC67599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42CD8-A765-4AA2-8586-5CE26E193D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CA2C8-9DA1-4E7C-90FF-6724D904DB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74C0B-2C6C-4DF8-8EBE-5FFBBAFB6C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1ED34-0DD4-466F-93AE-1B610AC419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AC5DE-CD41-4EE3-B631-200C27ADE46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C7BF0-9741-4AF7-8D32-AF0CBD8BD5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EFEEA-1A9B-4F2E-BB93-958CF7378E4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20CB4-8635-4ED3-9966-AB1ADCFC42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D6199-509E-402B-B629-5906E3957CA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443A5-5DD3-4EDA-A8C6-A4772D48A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0486-1F03-4C43-BB9D-2CAD8E0B77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8473C-2CB4-498B-B5E8-EDB77B5C12D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6FF6-98EC-482D-A83A-4D18E711AE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BEC3-44E1-40E4-91F1-F3A141B825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AD26-FCC1-4947-9C4B-117885A7C73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5CFC-828C-4286-AE5B-30B93B84A3B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E91E-FE77-4C5D-AE20-3EAB327CB6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54BB-310F-45B2-A120-9088CD000E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BEDE-59BB-405E-BE19-B1768255D6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E664-E116-4F0B-8CCF-CBCE3CC711E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30ED-7A11-4A44-BC1B-408F52C87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773B-0C39-41F0-A65B-D01D15E200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6900-A625-4653-A720-5AFE40AA08D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8B94-F380-4C75-BA79-D59CBCA4AF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997B-DF8F-422A-A308-98C7A67F5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4316-91D6-43EE-B931-5A1CA996A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1359-0359-47AA-903E-1E8CE076A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54280AAE-EB9D-4DAE-A597-BB48D48433BF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248600" y="6161040"/>
            <a:ext cx="1054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85F9A796-CD73-43DF-A59F-5660B360109E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7153200" y="6151320"/>
            <a:ext cx="1533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1DDD8876-F2DD-44BA-93E4-32EC8E5B56C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6648480" y="6151320"/>
            <a:ext cx="2038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9273986E-EE3C-48EB-81C7-BD50D033C827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5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8B090D83-255F-49CC-A11C-BBF0779061F4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6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EC0EB6E8-DB1D-4124-97FA-BA65E9113CC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8436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omparing Investments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226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Odd One Out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13E9006B-4E2E-4365-8725-05F8D51B7522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3164040" y="1450800"/>
            <a:ext cx="283680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nterest Rate: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3164040" y="3065400"/>
            <a:ext cx="283680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nterest Rate: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3164040" y="4782960"/>
            <a:ext cx="283680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nterest Rate: 1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Odd One Out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086253AB-ECEF-40F8-AF81-883C32FF2E49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3286080" y="1363680"/>
            <a:ext cx="257004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× 1.0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3286080" y="3097080"/>
            <a:ext cx="257004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0 × 1.0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286080" y="4757760"/>
            <a:ext cx="257004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× 1.0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Double Your Money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D93887E1-0936-4AF9-8488-D65B6A394FB2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3346560" y="1149480"/>
            <a:ext cx="257004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× 1.06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3346560" y="2660760"/>
            <a:ext cx="257004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0 × 1.06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3346560" y="4145040"/>
            <a:ext cx="257004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× 1.03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6230880" y="255096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wo investments will take exactly the same time to double the mone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Double Your Money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50F0DAA1-841D-4CE1-B39F-068709DFA509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3179880" y="1127160"/>
            <a:ext cx="256860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+ 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179880" y="2616120"/>
            <a:ext cx="256860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0 + 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3179880" y="4083120"/>
            <a:ext cx="256860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0 + 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6230880" y="255096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wo investments will take exactly the same time to double the mone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0:52:53Z</dcterms:created>
  <dc:creator>Daniel</dc:creator>
  <dc:description/>
  <cp:keywords/>
  <dc:language>en-US</dc:language>
  <cp:lastModifiedBy>Judith Mills</cp:lastModifiedBy>
  <cp:lastPrinted>2010-10-21T12:22:38Z</cp:lastPrinted>
  <dcterms:modified xsi:type="dcterms:W3CDTF">2012-04-12T09:49:34Z</dcterms:modified>
  <cp:revision>41</cp:revision>
  <dc:subject/>
  <dc:title>Solving Linear Equations in Two Variables </dc:title>
</cp:coreProperties>
</file>